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B89-EB9E-4D3A-9E10-022930F0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31E-C17B-406E-942E-93CE3271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894-521E-48F5-835E-3BA83106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EF2-1FAF-4A66-A223-C81D4969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E73C-3103-4EAD-B79D-1D75BEBC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F30E-EA0B-4BCC-A8F9-30705C19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675F-3C37-4A3B-AF96-04FFAD0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5B8D-C46E-4932-B2A6-A8409AF9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F556-186F-4376-89D8-5C0DEFF9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0E51-6FCB-4A39-A43B-AA62BA4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1B85-D18B-415B-AB5D-5D4C3DD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8AE-9E71-4304-9683-B2FB1B70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AA7E-12D8-4892-8A4C-6368BEC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3C61-7A5E-4F0A-85FC-3208E0D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23E9-A7AA-4815-9309-426DE319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5424-EA88-42E7-9791-CF849C4B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2A09-4FC5-4198-86BC-80B79297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58F-FFFC-471A-8A95-EDDADC74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295-1CBA-48E4-B8E4-397B362A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EDB-FFEE-4FEA-B9F7-DB26446A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C21-CADD-4E7C-90AD-6F0A464E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FEA-DC0A-4E19-AF98-DF2B8C8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05A-CAAB-4455-ABD9-75356A7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3DA-4364-4F4C-A476-4B413ED8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D75-3746-4370-8807-72BD8D95D2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2BD8-7140-477B-9E43-84657F73D8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uiafoca.org/servicos.html" TargetMode="External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mailto:Admin@dominio.com.br" TargetMode="Externa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RO FEDERAL DE EDUCAÇÃO TECNÓLOGICA DO ESPÍRITO SANTO</a:t>
            </a:r>
            <a:br>
              <a:rPr sz="20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UNIDADE DE ENSINO DESCENTRALIZADA DE COLATINA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URSO SUPERIOR DE TECNOLOGIA EM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REDES DE COMPUTADORES</a:t>
            </a:r>
            <a:endParaRPr b="0" lang="en-US" sz="21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IDOR APAC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RE AVEL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ICY KELLY DAIANE RODRIGUES DOS SA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ATINA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cote Apache / Utilitári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Servidor Web Princip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achect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Shell script que faz interface com 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 forma mais amigáv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acheconfig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Script em Perl para configuração interativa básica d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tpasswd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Cria/Gerencia senhas criptografadas Crypto/MD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tdiges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Cria/Gerencia senhas criptografadas Crypto/MD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bmmanag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Cria/Gerencia senhas em formato DBM (Per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gresolv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Faz um DNS reverso dos arquivos de log d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ra obter o endereço de hosts com base nos endereços IP'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Apache Benchmarcking - Ferramenta de medida de desempenho do servidor Web Apach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QUIVOS DE CONFIGURAÇÃ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 padrão, os arquivos de configuração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esidem no diretóri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/etc/apach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ttpd.conf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rm.conf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ccess.conf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SITOS MINIM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entium 1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4 MB de 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laca de rede de 10Mb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2b2b2"/>
                </a:solidFill>
                <a:latin typeface="Arial"/>
                <a:ea typeface="Times New Roman"/>
              </a:rPr>
              <a:t>Arquivos de log criados pelo Apache</a:t>
            </a:r>
            <a:r>
              <a:rPr b="0" lang="pt-BR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ccess.log - Registra detalhes sobre o acesso as páginas do servidor http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rror.log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Registra detalhes saber erros de acesso as páginas ou erros internos do servid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gent.log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Registra o nome do navegador do cliente (campo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erAgen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o cabeçalho http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  <a:ea typeface="Times New Roman"/>
              </a:rPr>
              <a:t>FUNCIONAMENTO DO APACH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Arial"/>
                <a:ea typeface="Times New Roman"/>
              </a:rPr>
              <a:t>Iniciando o servidor/reiniciando/recarregando a configuração</a:t>
            </a:r>
            <a:r>
              <a:rPr b="0" lang="pt-BR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pode ser executado tanto como um servidor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etd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u como um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aemo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A inicialização de programas pelo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etd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é uma boa estratégia quando você precisa de um controle de acesso básico , e o serviço é pouco usado na máqui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/etc/init.d/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ceita os seguinte parâmetro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art - Inicia 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op - Finaliza 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tart - Reinicia 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efetuando uma pausa de 5 segundos entre a interrupção do seu funcionamento e reinici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oad - Recarrega os arquivos de configuração d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s alterações entram em funcionamento imediat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oad-modules - Recarrega os módulos. Basicamente é feito um restart no servid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rce-reload - Faz a mesma função que o relo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ara reiniciar 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usando 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/etc/init.d/apach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digi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/etc/init.d/apache rest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d /etc/init.d;./apache rest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2b2b2"/>
                </a:solidFill>
                <a:latin typeface="Arial"/>
                <a:ea typeface="Times New Roman"/>
              </a:rPr>
              <a:t>Adicionando uma página no Apach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m dois tipos de páginas que p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r adicionadas a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página raíz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ub-págin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IGEM DO NO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m duas razões para o nome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ache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primeira é uma óbvia referência a nação Apache, tribo de nativos americanos que tinha, em combate, grande resistência e estratégias superiores.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egunda razão, que é aceita popularmente mas considerada incorreta pelos autores do software, vem de </a:t>
            </a:r>
            <a:r>
              <a:rPr b="0" i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patchy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que em inglês significa algo como um pequeno remendo, ou melhoria no softwa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b2b2b2"/>
                </a:solidFill>
                <a:latin typeface="Arial"/>
                <a:ea typeface="Times New Roman"/>
              </a:rPr>
              <a:t>Página Raíz</a:t>
            </a:r>
            <a:r>
              <a:rPr b="0" lang="pt-BR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página raíz é especificada através da diretiva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Roo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e será mostrada quando se entrar no domínio principal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a configuração padrão d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Roo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ponta para o diretóri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/var/www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Times New Roman"/>
              </a:rPr>
              <a:t>Sub-página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ub páginas são armazenadas abaixo do diretório da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 raíz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as podem ser um subdiretório da página principal em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/var/www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u serem criadas através da diretiva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lia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no arquiv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srm.conf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Narrow"/>
              </a:rPr>
              <a:t>CONFIGURANDO AS INTERFACES QUE O APACHE ATENDERÁ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560" y="2514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A diretiva </a:t>
            </a:r>
            <a:r>
              <a:rPr b="0" i="1" lang="pt-BR" sz="3200" spc="-1" strike="noStrike">
                <a:solidFill>
                  <a:srgbClr val="ffffff"/>
                </a:solidFill>
                <a:latin typeface="Arial Narrow"/>
              </a:rPr>
              <a:t>BindAddress</a:t>
            </a: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 é usada para especificar endereços IP das interfaces ou endereços FQDN que o Apache responderá requisições. Mais de um endereço podem ser especificados separados por espaç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64832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BindAddress 192.168.1.1 – Especifica que os usuários da faixa de rede 192.168.1.* terão acesso ao servidor httpd. Isto assume que a máquina possui o endereço 192.168.1.1 em sua interface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 Narrow"/>
              </a:rPr>
              <a:t>CONFIGURANDO AS INTERFACES QUE O APACHE ATENDERÁ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456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A diredita </a:t>
            </a:r>
            <a:r>
              <a:rPr b="0" i="1" lang="pt-BR" sz="3200" spc="-1" strike="noStrike">
                <a:solidFill>
                  <a:srgbClr val="ffffff"/>
                </a:solidFill>
                <a:latin typeface="Arial Narrow"/>
              </a:rPr>
              <a:t>BindAddress</a:t>
            </a: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 é usada para especificar endereços IP das interfaces ou endereços FQDN que o Apache responderá requisições. Mais de um endereço podem ser especificados separados por espaç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49568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 Narrow"/>
              </a:rPr>
              <a:t>BindAddress 192.168.1.1 – Especifica que os usuários da faixa de rede 192.168.1.* terão acesso ao servidor httpd. Isto assume que a máquina possui o endereço 192.168.1.1 em sua interface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DIRETIVA LISTEN</a:t>
            </a: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É usada para se ter um controle maior sobre a especificação de endereços/portas alternativas que o servidor web esperará por requisições exter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Listen 192.168.1.1: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Listen 192.168.7.1:8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Listen 6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DOCUMENTOS DE ERRO PERSONALIZAD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Documentos de erros personalizados são definidos através da diretiva ErrorDoc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ErrorDocument[código de erro][documento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Para definir uma mensagem de erro padrão para todo servidor web, basta colocar a diretiva ErrorDocument fora das diretivas que controlam o acesso a diretórios e virtual h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ERRO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981080"/>
            <a:ext cx="7772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Narrow"/>
              </a:rPr>
              <a:t>ErrorDocument 404/cgi-bin/erros404.p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Narrow"/>
              </a:rPr>
              <a:t>ErrorDocument 404 /naoencontrada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Narrow"/>
              </a:rPr>
              <a:t>ErrorDocument 500 “Erro Interno no Servi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Narrow"/>
              </a:rPr>
              <a:t>ErrorDocument 401 /obtendoacesso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Narrow"/>
              </a:rPr>
              <a:t>ErrorDocument 503 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Arial Narrow"/>
                <a:hlinkClick r:id="rId1"/>
              </a:rPr>
              <a:t>http://www.guiafoca.org/servico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Narrow"/>
              </a:rPr>
              <a:t>ErrorDocument 403 “Acesso Nega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MÓDULOS DSO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Os módulos DSO permitem adicionar/remover características do Apache sem necessidade de recompilar todo o servidor web, assim interrompendo o serviço para a atualização dos arquivos. Módulos de programas terceiros também podem ser compilados e adicionados sem problemas através desse recu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 Narrow"/>
              </a:rPr>
              <a:t>Sintaxe da linha para  carregar módulos DSO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Narrow"/>
              </a:rPr>
              <a:t>LoadModule[nome_do_modulo][caminho_do_arquivo_so]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2b2b2"/>
                </a:solidFill>
                <a:latin typeface="Arial Narrow"/>
              </a:rPr>
              <a:t>MÓDULOS PADRÕES DO APACHE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CEIT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Um servidor Web é um computador que processa solicitações HTTP (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yper-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xt 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ansfer 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otocol), o protocolo padrão da We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Quando você usa um navegador de internet para acessar um site, este faz as solicitações devidas ao servidor Web do site através de HTTP e então recebe o conteúdo corresponden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CRIAÇÃO DE AMBIEN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env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setenvif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unique_i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TIPO DE CONTEÚDO DE ARQUIV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 mod_mim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mime_magic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 mod_negoti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MAPEAMENTO DE UR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 mod_al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rewrit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userdi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spel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vhost_al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MANIPULAÇÃO DE DIRETÓRI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di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autoindex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CONTROLE DE ACES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*mod_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*mod_a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mod_auth_d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mod_auth_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mod_auth_a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mod_auth_dig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 Narrow"/>
              </a:rPr>
              <a:t>mod_dig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RESPOSTAS HTT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head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cern_me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expir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a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SCRIP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inclu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cg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ac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MANIPULADORES DE CONTEÚDO INTER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statu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inf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REGISTROS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DE REQUISIÇÕ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*mod_log_confi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log_ag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log_ref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Mod_usertrac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Narrow"/>
              </a:rPr>
              <a:t>SISTEMA DE LOG DO APACH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AgentLo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ErrorLo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ff"/>
                </a:solidFill>
                <a:latin typeface="Arial Narrow"/>
              </a:rPr>
              <a:t>CookieLo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ÓRIA DO APACH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197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em como base o servidor web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NCSA 1.3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ational Center of Supercomputing Application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que foi desenvolvido por Rob McCoo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ian Behlendorf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liff Skolnick como outros desenvolvedores se interessaram na tentativa de personalisar o servidor NCSA para atenter suas necessidades. Com isso criam uma lista de discussão para trocar patches com outros desenvolved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Relatório gráfico de acesso ao sistema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programa webalizer poderá ser instalado para gerar um relatório gráfico com a estatísticas de visitas por ano/mes/dia/hora usando os dados do access.lo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2b2b2"/>
                </a:solidFill>
                <a:latin typeface="Arial"/>
              </a:rPr>
              <a:t>Virtual Host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rtual Hosts (sites virtuais) é um recurso que permite servir mais de um site no mesmo servid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2b2b2"/>
                </a:solidFill>
                <a:latin typeface="Arial"/>
              </a:rPr>
              <a:t>Virtual Hosts baseados em IP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r um endereço IP diferente para cada site. Este poderá ser um IP real (da interface de rede) ou um apelido, o que interessa é que deve haver um endereço IP diferente para cada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4704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rverName www.site1.com.br      ServerAdmin site1@site1.com.br      DocumentRoot /var/www/www_site1_com_br      TransferLog /var/log/apache/site1/access.log      ErrorLog /var/log/apache/site1/error.log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www-data      Group www-data  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&lt;/VirtualHost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&lt;VirtualHost www.site2.com.br&gt;      ServerName www.site2.com.br      DocumentRoot /var/www/www_site2_com_br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Log /var/log/apache/site2/access.log combined   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rrorLog /var/log/apache/site2/error.log     &lt;/VirtualHost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2b2b2"/>
                </a:solidFill>
                <a:latin typeface="Arial"/>
              </a:rPr>
              <a:t>Virtual Hosts baseados em nome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e utiliza nomes para identificar os sites servidos e requerem somente um endereço IP. Desta maneira é possível servir um número ilimitado de sites virtuai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meVirtualHost 200.200.200.10:80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&lt;VirtualHost _default_:80200.200.200.10:80&gt;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rverName www.site.com.br      ServerAdmin admin@site.com.br      DocumentRoot /var/www      TransferLog /var/log/apache/access.log      ErrorLog /var/log/apache/error.log     &lt;/VirtualHost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&lt;VirtualHost 200.200.200.10&gt;      ServerName www.site1.com.br      ServerAdmin admin1@site1.com.br      DocumentRoot /var/www/www_site1_com_br      TransferLog /var/log/apache/site1/access.log      ErrorLog /var/log/apache/site1/error.log     &lt;/VirtualHost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2b2b2"/>
                </a:solidFill>
                <a:latin typeface="Arial"/>
              </a:rPr>
              <a:t>Configuração do Apache pelo Linuxconf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primeira coisa a se fazer é verificar se o modulo referente ao apache no linuxconf está ativo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rquivos de controle e sistemas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Configurar os módulos do configurador linux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Marque o modulo do apache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ceitar Sair Sair Ativar as Mudanç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ós, entre novamente no linuxconf e vá 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mbiente de Rede </a:t>
            </a:r>
            <a:r>
              <a:rPr b="1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Apache – servidor www </a:t>
            </a:r>
            <a:r>
              <a:rPr b="1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padrões </a:t>
            </a:r>
            <a:r>
              <a:rPr b="1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3739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 Aba “Básic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ereço e-mail do administrador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ara onde o mail será enviado automaticamente se houver irregularidades. O endereço padrão é root@localh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main IP address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ndereço IP do domínio (do servidor princip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.: 192.168.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me do Servidor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um nome válido em DNS do servidor princip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.: servidor.dominio.com.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tório raiz dos documentos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onde serão lidos os .htmls do servidor principal. O valor padrão é “/home/httpd/htm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primeira versão oficial d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foi a 0.6.2, lançada em Abril de 1995 (neste período a NCSA retomava o desenvolvimento de seu servidor web, tendo como desenvolvedores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ndon Long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th Frank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as versões 2.x do Apache, a escalabilidade do servidor foi ampliada suportando as plataformas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Win32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não obtendo o mesmo desempenho que em plataformas UNIX mas sendo melhorado gradativament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2 Aba “Registr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gistros de erro: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log de erros do sistema, cujo caminho opcionalmente pode ser especificado aqui. O valor padrão é logs/error_lo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gistros de transferências, registros de agentes, registros de referencias: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ogs do sistema, cujo caminho opcionalmente pode ser especificado aqu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 Aba “Ajust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cutando na porta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orta onde o servidor principal vai responder (padrão é 8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rquivo de identificação de processo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O servidor web armazena os PID de seus processos principais neste arquivo. O arquivo padrão é /var/run/httpd.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mpo máximo de espera da conexão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timeout” Quantos segundos o servidor web espera por um pedido a ser enviado após a conexão de um cliente ao servi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4 Aba “Funcionalidad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uncionalidades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neste encontram-se algumas opções que estão explicadas e poderão ser marcadas de acordo com a necessid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 estas configurações já é possível disponibilizar páginas em seu servidor Apache princip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á existe por padrão um arquivo index.html no diretório /home/httpd/html e para testar se a configuração está correta saia do linuxconf ativando as mudanç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figuração de um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mínio Virtua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2636640"/>
            <a:ext cx="87249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figuraçã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mbiente de rede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arefas de servidor Apache – Servidor Web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omínios Virtuais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dicionar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ome de máquina virtual: definimos o 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a máquina virtual em que o servidor 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rá rod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.: host_virtual.com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1.“Básico” infor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dereço e-mail do administrador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ra onde o mail será enviado automaticamente se houver irregular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.: 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Admin@dominio.com.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main IP address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O IP do Servidor Vir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.: 192.168.1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retório raiz dos documentos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pasta onde os documentos .html estar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.: /virtual/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 “Registros” infor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gistros de erro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log de erros do sistema, cujo caminho opcionalmente pode ser especificado aqu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.: logs/error_log.vir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gistros de transferências, registros de agentes, registros de referencias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gs do sistema, cujo caminho opcionalmente pode ser especificado aqu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mes alternativos de servidor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eria um apelido para este servidor vir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ionalidad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opções relativas a este servidor virtual são idênticas as opções do servidor princip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–END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Times New Roman"/>
              </a:rPr>
              <a:t>CARACTERÍSTICAS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  <a:ea typeface="Times New Roman"/>
              </a:rPr>
              <a:t>DO APACH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é um servidor Web extremamente configurável, robusto e de alta performance desenvolvido por uma equipe de voluntários (conhecida como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pache Group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 buscando criar um servidor web com muitas características e com código fonte disponível gratuitamente via Interne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5029200"/>
            <a:ext cx="3810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a scripts cgi usando linguagens como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Perl, PHP, Shell Script, ASP, etc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a autorização de acesso podendo ser especificadas restrições de acesso separadamente para cada endereço/arquivo/diretório acessado no servid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utenticação requerendo um nome de usuário e senha válidos para acesso a alguma página/sub-diretório/arquivo (suportando criptografia via Crypto e MD5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gociação de conteúdo, permitindo a exibição da página Web no idioma requisitado pelo Cliente Navegad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a tipos mi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sonalização de lo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nsagens de err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a virtual hosting (é possível servir 2 ou mais páginas com endereços/ portas diferentes através do mesmo processo ou usar mais de um processo para controlar mais de um endereço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a IP virtual hos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a name virtual hos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a servidor Proxy ftp e http, com limite de acesso, cac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a proxy e redirecionamentos baseados em URLs para endereços Intern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uporte a criptografia via SSL,Certificados digit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4:12:32Z</dcterms:created>
  <dc:creator>user</dc:creator>
  <dc:description/>
  <dc:language>en-US</dc:language>
  <cp:lastModifiedBy>200512770074</cp:lastModifiedBy>
  <dcterms:modified xsi:type="dcterms:W3CDTF">2007-06-19T17:08:55Z</dcterms:modified>
  <cp:revision>57</cp:revision>
  <dc:subject/>
  <dc:title>Slide 1</dc:title>
</cp:coreProperties>
</file>